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D7260-1AB6-49E8-AA1B-12A06653DC6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6C8F1-5CE3-4B4F-8C11-9F70654AA40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59A63-964B-4517-9985-C958802E522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470F7-F949-4D67-8349-66F61F88347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572F7-CF76-469E-B6B8-CC05F6F3A9D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FF86F-32A7-4F0B-8ACC-224C9F7AC90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4A3D1-404A-424C-BFEF-B8E07555CB3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605EA-17D0-4B65-A92B-63F32663D9C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18021-401E-4F2A-B745-CAE9DB642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E91EC-E3DA-48B5-BF4D-729F6F22A2A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4732E-49A8-46A5-B286-B9F30EF7BE7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D9425-A57D-4F1A-BF5F-944FB0DF33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1263E-0C08-4D89-A722-D1C44E2BC3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603D-8845-4DA0-B03A-2D1634CF6E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8CC18-6DDB-46E1-8F11-F8BBA5047D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FFB6-C198-484E-9E47-B33702767B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0DDD-19B1-46CE-8D76-22C887FD78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F7902-1364-4A49-91DB-654BC6CBC6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9B8E-B812-47B4-8ADB-30214A83E6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BA7F-027D-431B-8ED2-541D535B40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29E46-1EDF-46DE-9C61-8B6497E4E9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BBDC7-A599-4AD4-9AC8-331B3FA6B4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02702-6277-4894-9859-0B3C47F76D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450B-EE2F-46CC-B4D6-8B63F419E7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hyperlink" Target="http://www.semantic-web-grundlagen.de/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6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7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"/>
          <p:cNvPicPr/>
          <p:nvPr/>
        </p:nvPicPr>
        <p:blipFill>
          <a:blip r:embed="rId5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"/>
          </p:nvPr>
        </p:nvSpPr>
        <p:spPr>
          <a:xfrm>
            <a:off x="1266192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AC2B-AF65-45F2-90AC-13B676DFFEC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7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3"/>
          <p:cNvSpPr>
            <a:spLocks noGrp="1"/>
          </p:cNvSpPr>
          <p:nvPr>
            <p:ph type="sldNum" idx="1"/>
          </p:nvPr>
        </p:nvSpPr>
        <p:spPr>
          <a:xfrm>
            <a:off x="1266192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21F3-E143-4294-8214-6E014E24F00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" descr=""/>
          <p:cNvPicPr/>
          <p:nvPr/>
        </p:nvPicPr>
        <p:blipFill>
          <a:blip r:embed="rId2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n.org/%23" TargetMode="Externa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3.org/2000/01/rdf-schema%23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127008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127008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  <a:ea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6AE1-115B-4716-8B5D-4DF61ADBDA7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70080" y="1981080"/>
            <a:ext cx="11531520" cy="901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ypisierung von Ressourcen bereits in RDF zur Kennzeichnung von Listen: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ädika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weist dem Subjekt das Objekt als Typ zu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bjekt aufgefasst als Bezeichner für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, der die durch das Subjekt bezeichnete Ressource (als sog.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Instanz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angehört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9" name="Picture 3" descr=""/>
          <p:cNvPicPr/>
          <p:nvPr/>
        </p:nvPicPr>
        <p:blipFill>
          <a:blip r:embed="rId1"/>
          <a:stretch/>
        </p:blipFill>
        <p:spPr>
          <a:xfrm>
            <a:off x="3808440" y="3213000"/>
            <a:ext cx="8066160" cy="2616480"/>
          </a:xfrm>
          <a:prstGeom prst="rect">
            <a:avLst/>
          </a:prstGeom>
          <a:ln w="0">
            <a:noFill/>
          </a:ln>
        </p:spPr>
      </p:pic>
      <p:sp>
        <p:nvSpPr>
          <p:cNvPr id="480" name="Oval 4"/>
          <p:cNvSpPr/>
          <p:nvPr/>
        </p:nvSpPr>
        <p:spPr>
          <a:xfrm>
            <a:off x="3835440" y="4559400"/>
            <a:ext cx="2921040" cy="1409760"/>
          </a:xfrm>
          <a:prstGeom prst="ellipse">
            <a:avLst/>
          </a:prstGeom>
          <a:noFill/>
          <a:ln w="6336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2249-BEA0-48FF-8816-1729BC95D94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und Instanz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t „Semantic Web - Grundlagen“ als Instanz der (neu definierten) Klasse „Lehrbu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zugehörigkeit ist nicht exklusiv, z.B. mit o.g. Tripel gleichzeitig möglich: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Unterhaltsam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llgemein: a priori syntaktisch keine eindeutige Unterscheidung zwischen Individuen- und Klassenbezeichnern möglich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uch in der Realität Charakterisierung manchmal schwierig, beispielsweise für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un.org/#UR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5AF7-406A-442A-BAC9-854D16A9B7D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ie Klasse aller 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och manchmal eindeutige Kennzeichnung einer URI als Klassenbezeichner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 durch Typung der betreffenden URI als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s:Lehrbuch   rdf:type   rdfs:Class 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st also die „Klasse aller Klassen“ und enthält sich damit auch selbst, d.h. das folgende Tripel ist immer wahr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   rdf:type   rdfs:Class  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3F2A-34E7-4724-851C-AB57CB1F472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 - Motiv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77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gebe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Lehr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oblem: Suche nach Instanzen der Klasse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liefert kein Result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öglichkeit: Hinzufügen von Tripe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  rdf:type  ex:Buch 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öst das Problem aber nur für die eine Ressourc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SemanticWeb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tomatisches Hinzufügen für alle Instanzen führt zu unnötig großen RDF-Dokumen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8D65-E3D7-4DEF-9795-C9BAAA6E86E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innvoller: einmalige Aussage, dass jedes Lehrbuch auch ein Buch ist, d.h. jed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ist automatisch auch eine Instanz der Klass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0D32-E0DC-412A-8766-A93D326C146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1000"/>
          </a:bodyPr>
          <a:p>
            <a:pPr marL="630720" indent="-405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 ist reflextiv, d.h. jede Klasse ist Unterklasse von sich selbst, so dass z.B. gilt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Lehrbuch 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mgekehrt: Festlegung der Gleichheit zweier Klassen durch gegenseitige Unterklassenbeziehung, etwa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ospital   rdfs:subClassOf   ex:Krankenhaus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Krankenhaus   rdfs:subClassOf   ex:Hospital 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630720" indent="-4053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ealisiert durch die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-Propert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rdfs:subClassOf   ex:Buch  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„Die Klasse der Lehrbücher ist eine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Unterklasse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der Klasse der Bücher.“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371C-3821-4981-9ED6-76E631DF545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Üblich: nicht nur einzelne Unterklassenbeziehungen sondern ganze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(auch: </a:t>
            </a:r>
            <a:r>
              <a:rPr b="0" i="1" lang="en-US" sz="4000" spc="-1" strike="noStrike">
                <a:solidFill>
                  <a:srgbClr val="000000"/>
                </a:solidFill>
                <a:latin typeface="Helvetica Neue"/>
              </a:rPr>
              <a:t>Taxonomien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z.B.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rdfs:subClassOf   ex:Buch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ch        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Zeitschrift   rdfs:subClassOf   ex:Printmedium 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in RDFS-Semantik verankert: Transitivität der </a:t>
            </a: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-Property, d.h. es folgt automatisch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Lehrbuch     rdfs:subClassOf   ex:Printmedium 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AE9D-1F7B-4480-A7E7-A917B380CBE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hierarch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nhierarchie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onders ausgepräg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twa in Biologie (z.B.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Klass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fikation von Lebe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e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.B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oologische Einord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ung des modern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s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7429680" y="1847880"/>
            <a:ext cx="5562360" cy="78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RDF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="http://www.w3.org/1999/02/22-rdf-syntax-ns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rdfs="http://www.w3.org/2000/01/rdf-schema#"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xmlns:ex="http://www.semantic-web-grundlagen.de/Beispiele#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Ani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Chordat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Chorda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Ani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Mammalia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S¨augetiere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Chordat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Primate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Primat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Mammalia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Primates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inidae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oderner Mensch&lt;/rdfs:label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subClassOf rdfs:resource="&amp;ex;Homo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:RDF&gt;</a:t>
            </a: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DD8B-5E59-4A5C-9579-F207D23C2A4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uitive Parallele zur Mengenlehre: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entspricht     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∈</a:t>
            </a:r>
            <a:br>
              <a:rPr sz="5400"/>
            </a:b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entspricht     </a:t>
            </a:r>
            <a:r>
              <a:rPr b="0" lang="en-US" sz="13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Helvetica Neue"/>
                <a:ea typeface="Apple Symbols"/>
              </a:rPr>
              <a:t>⊆</a:t>
            </a:r>
            <a:endParaRPr b="0" lang="en-US" sz="5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chtfertigt beispielsweise auch die Reflexivität und Transitivität von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D07D-BD78-4E4E-8913-449596A6045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Klassen in RDF/XML-Syntax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en bei Angabe von Klasseninstanzen möglich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ex:HomoSapiens rdf:about="&amp;ex;SebastianRudolph"/&gt;</a:t>
            </a:r>
            <a:br>
              <a:rPr sz="2600"/>
            </a:br>
            <a:br>
              <a:rPr sz="26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n Stelle von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:Description rdf:about= "&amp;ex;SebastianRudolph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rdf:type rdf:resource= "&amp;ex;HomoSapiens"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&lt;/rdf:Description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ementsprechend auch</a:t>
            </a:r>
            <a:br>
              <a:rPr sz="42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oSapiens"/&gt;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RDF Schema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45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1" name="Picture 12" descr=""/>
          <p:cNvPicPr/>
          <p:nvPr/>
        </p:nvPicPr>
        <p:blipFill>
          <a:blip r:embed="rId2"/>
          <a:srcRect l="33175" t="59995" r="21726" b="32560"/>
          <a:stretch/>
        </p:blipFill>
        <p:spPr>
          <a:xfrm>
            <a:off x="8940960" y="6591240"/>
            <a:ext cx="1930320" cy="33012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63"/>
          <p:cNvSpPr/>
          <p:nvPr/>
        </p:nvSpPr>
        <p:spPr>
          <a:xfrm>
            <a:off x="660240" y="4545000"/>
            <a:ext cx="6108840" cy="43164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Rectangle 64"/>
          <p:cNvSpPr/>
          <p:nvPr/>
        </p:nvSpPr>
        <p:spPr>
          <a:xfrm>
            <a:off x="-12600" y="9455040"/>
            <a:ext cx="1501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zwei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7820-0D19-4C6E-A004-8F833700F07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Resour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Ressourcen (also sämtliche Elemente des Gegenstandsbereiches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= die Ressourcen, die durch Prädikats-URIs referenziert werden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List, rdf:Seq, rdf:Bag, rdf:Alt, rdfs:Contai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n verschiedener Arten von Lis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Klasse aller Beziehungen, die eine Enthaltenseinsbeziehung darstell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F9EF-8D00-49DE-9B9F-040086187BB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ordefinierte Klassenbezeichner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24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XML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Werte des vordefinierten Datentyps XMLLiter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iter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Literalwerte (enthält also alle Datentypen als Unter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Datatyp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Datentypen (ist also wie rdfs:Class eine Klasse von Klass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76212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25000"/>
              <a:buFont typeface="Helvetica Neue"/>
              <a:buChar char="•"/>
              <a:tabLst>
                <a:tab algn="l" pos="5181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lasse aller reifizierten Aussagen (s. dort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0768-3FAA-4686-BD83-BCCBA570AAA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9E36-AE50-412D-84CF-8F9A43357C2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ndere Bezeichnungen: Relationen, Beziehung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Propertys sind in RDF(S) nicht (wie in OOP) speziellen Klassen zugeodn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-Bezeichner in Tripeln üblicherweise an Prädikatsstell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harakterisieren, auf welche Art zwei Ressourcen zueinander in Beziehung steh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athematisch oft dargestellt als Menge von Paar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verheiratet_mit = {(Adam,Eva),(Brad,Angelina),...}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RI wird als Property-Bezeichner gekennzeichnet durch entsprechende Typung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   rdf:type   rdf:Property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6B05-1F9B-4AF8-9394-0B9834E92F6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Unter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9800" y="2425680"/>
            <a:ext cx="12420720" cy="675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ähnlich zu Unter-/Oberklassen auch Unter-/Oberpropertys denkbar und sinnvol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rstellung in RDFS mittels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PropertyOf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z.B.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glücklichVerheiratetMit   rdf:subPropertyOf   rdf:verheiratetMit   .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-3049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, aus dem Tripel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ex:glücklich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zu schlussfolgern,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dass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Markus  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heiratetMit    ex:Anja   .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0182-BFF7-4E63-AECB-14DCB4696AC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7326-7CD6-4CD9-9012-FBA0217B564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häufig: Property kann sinnvoll nur ganz bestimmte Ressourcen verbinden, z.B. verbindet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legtBei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nur Publikationen mit Verlagen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.h. für alle URIs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, b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ex:verlegtBei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s auch gilt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  rdf:type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b   rdf:type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kann in RDFS direkt kodiert werden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domain   ex:Publikation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verlegtBei   rdfs:range      ex:Verlag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uch zur Angabe von Datentypen für Literale: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  ex:hatAlter   rdfs:range   xsd:nonNegativeInteger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56A2-5E59-4EDB-9A22-AFB947B490D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schränkung von Property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Propertyeinschränkungen bieten die einzige Möglichkeit, semantische Zusammenhänge zwischen Propertys und Klassen zu spezifizier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Achtung: Propertyeinschränkungen wirken global und konjunktiv, z.B.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Kochbuch   .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autorVon   rdfs:range   ex:Märchenbuch   . 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bedeutet: jede Entität, von der jemand Autor ist, ist </a:t>
            </a:r>
            <a:r>
              <a:rPr b="1" lang="en-US" sz="3400" spc="-1" strike="noStrike">
                <a:solidFill>
                  <a:srgbClr val="000000"/>
                </a:solidFill>
                <a:latin typeface="Helvetica Neue"/>
              </a:rPr>
              <a:t>gleichzeitig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 Kochbuch und Märchenbuch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daher: als domain/range immer allgemeinste mögliche Klasse verwenden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A008-8F4B-41FF-B98F-A01B9374B7C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C503-8C81-49E9-8465-E8B79271020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zur Erinnerung: offene Listen in RDF: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1039680" y="3098880"/>
            <a:ext cx="10923840" cy="354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61C9-E151-46D9-8DA9-12459194640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D883-B2F4-4785-B99D-1A1C34DB438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als Oberklasse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eq, rdf:Bag, rdf:Al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Klasse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lemente sind keine Individuen i.e.S. sondern selbst Propertys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intendierte Semantik: jede Property, die aussagt, dass das Subjekt im Objekt enthalten ist, ist Instanz vo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s gilt also insbesondere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1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_2  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tc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A01A-98C4-45B3-B7B6-04E2E786992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rbeit mit offenen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neue Property: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member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Oberproperty aller in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ntainerMembershipProperty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nthaltenen Propertys, also die „universelle Enthaltenseinsrelation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mit in RDFS-Semantik verankert: wann immer für eine Property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rdf:type   rdfs:ContainerMembershipProperty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gilt,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olgt aus dem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 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p   b   .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sofort</a:t>
            </a:r>
            <a:r>
              <a:rPr b="0" lang="en-US" sz="47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das Tripel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a</a:t>
            </a:r>
            <a:r>
              <a:rPr b="0" lang="en-US" sz="47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rdfs:member   b   .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7C1C-F706-4804-88A0-C835D32B12D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D6EA-991B-47C4-AED3-84BE12DB988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ex:vermutet "Der Butler hat den Gärtner ermordet."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auf Literal-Objekt kann schlecht in anderen Aussagen Bezug genommen werden (keine URI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detektiv  ex:vermutet  ex:derButlerHatDenGärtnerErmordet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226520" indent="-52560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ungünstig: innere Struktur der dass-Aussage geht verlor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B8FE-F660-44CA-8239-7E893A6771D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blematisch in RDF(S): Modellierung von Aussagen über Aussagen (häufig zu erkennen am Wort„dass“), z.B.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„Der Detektiv vermutet, </a:t>
            </a:r>
            <a:r>
              <a:rPr b="1" i="1" lang="en-US" sz="3200" spc="-1" strike="noStrike">
                <a:solidFill>
                  <a:srgbClr val="000000"/>
                </a:solidFill>
                <a:latin typeface="Helvetica Neue"/>
              </a:rPr>
              <a:t>dass</a:t>
            </a:r>
            <a:r>
              <a:rPr b="0" i="1" lang="en-US" sz="3200" spc="-1" strike="noStrike">
                <a:solidFill>
                  <a:srgbClr val="000000"/>
                </a:solidFill>
                <a:latin typeface="Helvetica Neue"/>
              </a:rPr>
              <a:t> der Butler den Gärtner ermordet hat.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inzelne dass-Aussage leicht in RDF modellierba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merican Typewriter Condensed"/>
                <a:ea typeface="American Typewriter Condensed"/>
              </a:rPr>
              <a:t>ex:butler   ex:hatErmordet   ex:gärtner   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wünschenswert: ganzes RDF-Tripel als Objekt eines anderen Tripels; ist aber kein gültiges RDF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0143-AC3D-499F-AE9C-4BF706086E9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7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9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Oval 6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Oval 7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4212360" y="4872960"/>
            <a:ext cx="2382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Rectangle 9"/>
          <p:cNvSpPr/>
          <p:nvPr/>
        </p:nvSpPr>
        <p:spPr>
          <a:xfrm>
            <a:off x="3912120" y="7933680"/>
            <a:ext cx="3085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Line 10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Line 11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Oval 12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Line 13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Line 14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Line 15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Line 16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17"/>
          <p:cNvSpPr/>
          <p:nvPr/>
        </p:nvSpPr>
        <p:spPr>
          <a:xfrm>
            <a:off x="1494360" y="6790680"/>
            <a:ext cx="2103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18"/>
          <p:cNvSpPr/>
          <p:nvPr/>
        </p:nvSpPr>
        <p:spPr>
          <a:xfrm>
            <a:off x="4181400" y="6917760"/>
            <a:ext cx="25459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19"/>
          <p:cNvSpPr/>
          <p:nvPr/>
        </p:nvSpPr>
        <p:spPr>
          <a:xfrm>
            <a:off x="7440840" y="6790680"/>
            <a:ext cx="1896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661A-F913-435B-9649-C7060180ED4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7" name="Oval 2"/>
          <p:cNvSpPr/>
          <p:nvPr/>
        </p:nvSpPr>
        <p:spPr>
          <a:xfrm>
            <a:off x="165240" y="7404120"/>
            <a:ext cx="11023560" cy="2184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79" name="Oval 4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Oval 5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161240" y="4833720"/>
            <a:ext cx="2015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3859920" y="7894440"/>
            <a:ext cx="261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Line 9"/>
          <p:cNvSpPr/>
          <p:nvPr/>
        </p:nvSpPr>
        <p:spPr>
          <a:xfrm flipH="1" flipV="1">
            <a:off x="2941200" y="8473680"/>
            <a:ext cx="4915080" cy="2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Line 10"/>
          <p:cNvSpPr/>
          <p:nvPr/>
        </p:nvSpPr>
        <p:spPr>
          <a:xfrm flipH="1" flipV="1">
            <a:off x="5417640" y="4333680"/>
            <a:ext cx="33480" cy="3098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1DF5-C9B4-4677-B8B3-185609778B4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Lösung (ähnlich wie bei mehrwertigen Beziehungen): Hilfsknoten für die geschachtelte Auss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9" name="Oval 3"/>
          <p:cNvSpPr/>
          <p:nvPr/>
        </p:nvSpPr>
        <p:spPr>
          <a:xfrm>
            <a:off x="584280" y="7988400"/>
            <a:ext cx="2361960" cy="101592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butl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Oval 4"/>
          <p:cNvSpPr/>
          <p:nvPr/>
        </p:nvSpPr>
        <p:spPr>
          <a:xfrm>
            <a:off x="4025880" y="3200400"/>
            <a:ext cx="2768760" cy="111744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detektiv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Oval 5"/>
          <p:cNvSpPr/>
          <p:nvPr/>
        </p:nvSpPr>
        <p:spPr>
          <a:xfrm>
            <a:off x="3530520" y="7620120"/>
            <a:ext cx="3861000" cy="114300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hatErmord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Oval 6"/>
          <p:cNvSpPr/>
          <p:nvPr/>
        </p:nvSpPr>
        <p:spPr>
          <a:xfrm>
            <a:off x="7848720" y="7975440"/>
            <a:ext cx="2755800" cy="10414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gärtn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4147920" y="4834080"/>
            <a:ext cx="173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vermut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Line 8"/>
          <p:cNvSpPr/>
          <p:nvPr/>
        </p:nvSpPr>
        <p:spPr>
          <a:xfrm flipH="1" flipV="1">
            <a:off x="5418000" y="4333680"/>
            <a:ext cx="15840" cy="1355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Oval 9"/>
          <p:cNvSpPr/>
          <p:nvPr/>
        </p:nvSpPr>
        <p:spPr>
          <a:xfrm>
            <a:off x="4140360" y="5689440"/>
            <a:ext cx="2641320" cy="1016280"/>
          </a:xfrm>
          <a:prstGeom prst="ellipse">
            <a:avLst/>
          </a:prstGeom>
          <a:solidFill>
            <a:srgbClr val="d2d2d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x:theori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Line 10"/>
          <p:cNvSpPr/>
          <p:nvPr/>
        </p:nvSpPr>
        <p:spPr>
          <a:xfrm flipH="1" flipV="1">
            <a:off x="6560640" y="6480000"/>
            <a:ext cx="1770120" cy="16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Line 11"/>
          <p:cNvSpPr/>
          <p:nvPr/>
        </p:nvSpPr>
        <p:spPr>
          <a:xfrm flipV="1">
            <a:off x="2674800" y="6479640"/>
            <a:ext cx="1727280" cy="169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Line 12"/>
          <p:cNvSpPr/>
          <p:nvPr/>
        </p:nvSpPr>
        <p:spPr>
          <a:xfrm flipV="1">
            <a:off x="5451480" y="6705360"/>
            <a:ext cx="0" cy="94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Rectangle 13"/>
          <p:cNvSpPr/>
          <p:nvPr/>
        </p:nvSpPr>
        <p:spPr>
          <a:xfrm>
            <a:off x="1437840" y="6751800"/>
            <a:ext cx="153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u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Rectangle 14"/>
          <p:cNvSpPr/>
          <p:nvPr/>
        </p:nvSpPr>
        <p:spPr>
          <a:xfrm>
            <a:off x="4122720" y="6878880"/>
            <a:ext cx="185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predica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Rectangle 15"/>
          <p:cNvSpPr/>
          <p:nvPr/>
        </p:nvSpPr>
        <p:spPr>
          <a:xfrm>
            <a:off x="7387920" y="6751800"/>
            <a:ext cx="138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o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6622-A1CA-4EB9-853F-6B0F5E01BB2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chtung: reifiziertes Tripel muss nicht unbedingt gelt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(wäre auch nicht immer sinnvoll, z.B. bei Aussagen wie: „Der Detektiv bezweifelt, dass der Butler den Gärtner ermordet hat.“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dies gewünscht ist, muss das originale (unreifizierte) Tripel dem RDF-Dokument nochmals hinzugefügt werd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er Klassenbezeichner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Statement</a:t>
            </a:r>
            <a:r>
              <a:rPr b="0" lang="en-US" sz="4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ient zur Kennzeichnung aller solcher Aussagen-Hilfsknote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alls auf eine Aussage nicht (extern) Bezug genommen wird, kann der entsprechende Hilfsknoten ein bnode sei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ADF4-F708-457E-BB2F-2785D500CB1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eifikatio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Übungsaufgabe: noch eine Kriminalgeschichte..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8" name="Picture 3" descr=""/>
          <p:cNvPicPr/>
          <p:nvPr/>
        </p:nvPicPr>
        <p:blipFill>
          <a:blip r:embed="rId1"/>
          <a:stretch/>
        </p:blipFill>
        <p:spPr>
          <a:xfrm>
            <a:off x="584280" y="3224160"/>
            <a:ext cx="11866320" cy="5462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8F25-0102-46C3-A5E4-E7EA76F7C90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FCD2-86A2-4C53-AE48-8EE96D0955F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73A9-AFAC-40EA-ABD3-323EE7E58CF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bei Programmiersprachen manchmal Hinzufügen von Kommentaren (ohne Auswirkung auf Semantik) wünschensw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weck: Erhöhung der Verständlichkeit für menschlichen Nutz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s empfiehlt sich (z.B. aus Tool-Kompatibilitätsgründen) auch dieses Wissen als Graph zu repräsent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o: Satz von Propertys, die diesem Zweck die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0010-D092-4037-98F1-3EF45986FDF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alternativen Namen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oftmals sind URIs schwer lesbar; zumindest „unhandlich“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durch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label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 zugewiesener Name wird z.B. häufig von Tools bei der graphischen Darstellung verwende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spiel (incl. Sprachinformation)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Class rdf:about="&amp;ex;Hominidae"&g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rdfs:label xml:lang="de"&gt;Menschenaffen&lt;/rdfs:label&gt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rdfs:Class&gt;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6CE8-BA58-440B-AB43-D940997BE2A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omment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y, die einer (beliebigen) Ressource einen umfangreichen Kommentar zuweist (Liter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einhaltet z.B. natürlichsprachliche Definition einer neu eingeführten Klasse - erleichtert spätere intentionsgemäße Wiederverwendu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eeAlso, rdfs:definedBy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Properties, die Ressourcen (URIs!) angeben, die weitere Informationen bzw. eine Definition der Subjekt-Ressource bereitstellen 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1736-BD48-4502-9F45-B65916E1AB5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Zusatzinform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wendungsbeispi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4" name="Picture 3" descr=""/>
          <p:cNvPicPr/>
          <p:nvPr/>
        </p:nvPicPr>
        <p:blipFill>
          <a:blip r:embed="rId1"/>
          <a:stretch/>
        </p:blipFill>
        <p:spPr>
          <a:xfrm>
            <a:off x="2171880" y="2971800"/>
            <a:ext cx="9727920" cy="5738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F09F-15E0-41FA-A90F-DEF87F8BC9F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6139-2982-4730-BBB0-433227B3EE3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 den durch RDFS bereitgestellten Sprachmitteln können bestimmte Gegenstandsbereiche bereits in wichtigen Aspekten semantisch erfass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f der Basis der speziellen Semantik von RDFS kann schon ein gewisses Maß impliziten Wissens geschlussfolgert werd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ithin stellt RDFS eine (wenn auch noch vergleichsweise wenig ausdrucksstarke) Ontologiesprache d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80D7-51E4-478A-A259-B5FA60197EA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Ontologien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203040" y="1892160"/>
            <a:ext cx="8026560" cy="30229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3" descr=""/>
          <p:cNvPicPr/>
          <p:nvPr/>
        </p:nvPicPr>
        <p:blipFill>
          <a:blip r:embed="rId2"/>
          <a:stretch/>
        </p:blipFill>
        <p:spPr>
          <a:xfrm>
            <a:off x="3529080" y="3195720"/>
            <a:ext cx="9450360" cy="6507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6F80-BDE9-454F-B2DC-E4EA3F91C29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647640" y="4114800"/>
            <a:ext cx="11633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XML: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38" name="Group 3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39" name="AutoShape 4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0" name="AutoShape 5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1" name="AutoShape 6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Rectangle 7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Group 8"/>
          <p:cNvGrpSpPr/>
          <p:nvPr/>
        </p:nvGrpSpPr>
        <p:grpSpPr>
          <a:xfrm>
            <a:off x="938160" y="5029200"/>
            <a:ext cx="11017800" cy="3978360"/>
            <a:chOff x="938160" y="5029200"/>
            <a:chExt cx="11017800" cy="3978360"/>
          </a:xfrm>
        </p:grpSpPr>
        <p:grpSp>
          <p:nvGrpSpPr>
            <p:cNvPr id="644" name="Group 9"/>
            <p:cNvGrpSpPr/>
            <p:nvPr/>
          </p:nvGrpSpPr>
          <p:grpSpPr>
            <a:xfrm>
              <a:off x="4437360" y="5029200"/>
              <a:ext cx="3079800" cy="754200"/>
              <a:chOff x="4437360" y="5029200"/>
              <a:chExt cx="3079800" cy="754200"/>
            </a:xfrm>
          </p:grpSpPr>
          <p:sp>
            <p:nvSpPr>
              <p:cNvPr id="645" name="Oval 10"/>
              <p:cNvSpPr/>
              <p:nvPr/>
            </p:nvSpPr>
            <p:spPr>
              <a:xfrm>
                <a:off x="4437360" y="5029200"/>
                <a:ext cx="307980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46" name="Rectangle 11"/>
              <p:cNvSpPr/>
              <p:nvPr/>
            </p:nvSpPr>
            <p:spPr>
              <a:xfrm>
                <a:off x="4741560" y="5164560"/>
                <a:ext cx="2471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Description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47" name="Group 12"/>
            <p:cNvGrpSpPr/>
            <p:nvPr/>
          </p:nvGrpSpPr>
          <p:grpSpPr>
            <a:xfrm>
              <a:off x="5289120" y="6108840"/>
              <a:ext cx="1370880" cy="753840"/>
              <a:chOff x="5289120" y="6108840"/>
              <a:chExt cx="1370880" cy="753840"/>
            </a:xfrm>
          </p:grpSpPr>
          <p:sp>
            <p:nvSpPr>
              <p:cNvPr id="648" name="Oval 13"/>
              <p:cNvSpPr/>
              <p:nvPr/>
            </p:nvSpPr>
            <p:spPr>
              <a:xfrm>
                <a:off x="5311800" y="6108840"/>
                <a:ext cx="1323720" cy="75384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49" name="Rectangle 14"/>
              <p:cNvSpPr/>
              <p:nvPr/>
            </p:nvSpPr>
            <p:spPr>
              <a:xfrm>
                <a:off x="5289120" y="6248160"/>
                <a:ext cx="13708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typ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50" name="Group 15"/>
            <p:cNvGrpSpPr/>
            <p:nvPr/>
          </p:nvGrpSpPr>
          <p:grpSpPr>
            <a:xfrm>
              <a:off x="938160" y="6324480"/>
              <a:ext cx="1841400" cy="546120"/>
              <a:chOff x="938160" y="6324480"/>
              <a:chExt cx="1841400" cy="546120"/>
            </a:xfrm>
          </p:grpSpPr>
          <p:sp>
            <p:nvSpPr>
              <p:cNvPr id="651" name="Oval 16"/>
              <p:cNvSpPr/>
              <p:nvPr/>
            </p:nvSpPr>
            <p:spPr>
              <a:xfrm>
                <a:off x="938160" y="6324480"/>
                <a:ext cx="1841400" cy="54612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52" name="Rectangle 17"/>
              <p:cNvSpPr/>
              <p:nvPr/>
            </p:nvSpPr>
            <p:spPr>
              <a:xfrm>
                <a:off x="1335240" y="6354720"/>
                <a:ext cx="10476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ID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53" name="Line 18"/>
            <p:cNvSpPr/>
            <p:nvPr/>
          </p:nvSpPr>
          <p:spPr>
            <a:xfrm flipH="1">
              <a:off x="2671560" y="5562720"/>
              <a:ext cx="1841760" cy="86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Rectangle 19"/>
            <p:cNvSpPr/>
            <p:nvPr/>
          </p:nvSpPr>
          <p:spPr>
            <a:xfrm>
              <a:off x="1363320" y="7396200"/>
              <a:ext cx="9766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5" name="Line 20"/>
            <p:cNvSpPr/>
            <p:nvPr/>
          </p:nvSpPr>
          <p:spPr>
            <a:xfrm>
              <a:off x="5950080" y="5778360"/>
              <a:ext cx="180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6" name="Line 21"/>
            <p:cNvSpPr/>
            <p:nvPr/>
          </p:nvSpPr>
          <p:spPr>
            <a:xfrm flipH="1">
              <a:off x="5164560" y="6756480"/>
              <a:ext cx="433440" cy="64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Line 22"/>
            <p:cNvSpPr/>
            <p:nvPr/>
          </p:nvSpPr>
          <p:spPr>
            <a:xfrm>
              <a:off x="1805040" y="6870600"/>
              <a:ext cx="1440" cy="430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8" name="Rectangle 23"/>
            <p:cNvSpPr/>
            <p:nvPr/>
          </p:nvSpPr>
          <p:spPr>
            <a:xfrm>
              <a:off x="1271160" y="8556120"/>
              <a:ext cx="7320960" cy="451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American Typewriter"/>
                  <a:ea typeface="American Typewriter"/>
                  <a:hlinkClick r:id="rId1"/>
                </a:rPr>
                <a:t>http://www.w3.org/2000/01/rdf-schema#</a:t>
              </a: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Class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Line 24"/>
            <p:cNvSpPr/>
            <p:nvPr/>
          </p:nvSpPr>
          <p:spPr>
            <a:xfrm>
              <a:off x="4974120" y="7950240"/>
              <a:ext cx="288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0" name="Line 25"/>
            <p:cNvSpPr/>
            <p:nvPr/>
          </p:nvSpPr>
          <p:spPr>
            <a:xfrm>
              <a:off x="7115760" y="5676840"/>
              <a:ext cx="173376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661" name="Group 26"/>
            <p:cNvGrpSpPr/>
            <p:nvPr/>
          </p:nvGrpSpPr>
          <p:grpSpPr>
            <a:xfrm>
              <a:off x="9530640" y="7188120"/>
              <a:ext cx="2425320" cy="754200"/>
              <a:chOff x="9530640" y="7188120"/>
              <a:chExt cx="2425320" cy="754200"/>
            </a:xfrm>
          </p:grpSpPr>
          <p:sp>
            <p:nvSpPr>
              <p:cNvPr id="662" name="Oval 27"/>
              <p:cNvSpPr/>
              <p:nvPr/>
            </p:nvSpPr>
            <p:spPr>
              <a:xfrm>
                <a:off x="953064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3" name="Rectangle 28"/>
              <p:cNvSpPr/>
              <p:nvPr/>
            </p:nvSpPr>
            <p:spPr>
              <a:xfrm>
                <a:off x="971172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64" name="Group 29"/>
            <p:cNvGrpSpPr/>
            <p:nvPr/>
          </p:nvGrpSpPr>
          <p:grpSpPr>
            <a:xfrm>
              <a:off x="3759480" y="7188120"/>
              <a:ext cx="2425320" cy="754200"/>
              <a:chOff x="3759480" y="7188120"/>
              <a:chExt cx="2425320" cy="754200"/>
            </a:xfrm>
          </p:grpSpPr>
          <p:sp>
            <p:nvSpPr>
              <p:cNvPr id="665" name="Oval 30"/>
              <p:cNvSpPr/>
              <p:nvPr/>
            </p:nvSpPr>
            <p:spPr>
              <a:xfrm>
                <a:off x="3759480" y="7188120"/>
                <a:ext cx="242532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6" name="Rectangle 31"/>
              <p:cNvSpPr/>
              <p:nvPr/>
            </p:nvSpPr>
            <p:spPr>
              <a:xfrm>
                <a:off x="3940560" y="7331400"/>
                <a:ext cx="2061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resource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67" name="Group 32"/>
            <p:cNvGrpSpPr/>
            <p:nvPr/>
          </p:nvGrpSpPr>
          <p:grpSpPr>
            <a:xfrm>
              <a:off x="7904880" y="5994360"/>
              <a:ext cx="3110040" cy="754200"/>
              <a:chOff x="7904880" y="5994360"/>
              <a:chExt cx="3110040" cy="754200"/>
            </a:xfrm>
          </p:grpSpPr>
          <p:sp>
            <p:nvSpPr>
              <p:cNvPr id="668" name="Oval 33"/>
              <p:cNvSpPr/>
              <p:nvPr/>
            </p:nvSpPr>
            <p:spPr>
              <a:xfrm>
                <a:off x="7904880" y="5994360"/>
                <a:ext cx="3110040" cy="75420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69" name="Rectangle 34"/>
              <p:cNvSpPr/>
              <p:nvPr/>
            </p:nvSpPr>
            <p:spPr>
              <a:xfrm>
                <a:off x="8244720" y="6139080"/>
                <a:ext cx="24285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8160" rIns="95040" tIns="38160" bIns="38160" anchor="ctr">
                <a:spAutoFit/>
              </a:bodyPr>
              <a:p>
                <a:pPr marL="176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3333cc"/>
                    </a:solidFill>
                    <a:latin typeface="American Typewriter"/>
                    <a:ea typeface="American Typewriter"/>
                  </a:rPr>
                  <a:t>rdf:subClassOf</a:t>
                </a:r>
                <a:endParaRPr b="0" lang="en-US" sz="2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670" name="Line 35"/>
            <p:cNvSpPr/>
            <p:nvPr/>
          </p:nvSpPr>
          <p:spPr>
            <a:xfrm>
              <a:off x="9743400" y="6756480"/>
              <a:ext cx="86688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1" name="Rectangle 36"/>
            <p:cNvSpPr/>
            <p:nvPr/>
          </p:nvSpPr>
          <p:spPr>
            <a:xfrm>
              <a:off x="9516960" y="8583840"/>
              <a:ext cx="2387880" cy="396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57600" tIns="0" bIns="0" anchor="ctr">
              <a:spAutoFit/>
            </a:bodyPr>
            <a:p>
              <a:pPr marL="572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2" name="Line 37"/>
            <p:cNvSpPr/>
            <p:nvPr/>
          </p:nvSpPr>
          <p:spPr>
            <a:xfrm>
              <a:off x="10827720" y="7950240"/>
              <a:ext cx="1800" cy="544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6FA5-D49F-40AF-A5D1-BE58712372C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75" name="Rectangle 2"/>
          <p:cNvSpPr/>
          <p:nvPr/>
        </p:nvSpPr>
        <p:spPr>
          <a:xfrm>
            <a:off x="914400" y="4051440"/>
            <a:ext cx="11417400" cy="67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eres Datenmode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De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und </a:t>
            </a:r>
            <a:r>
              <a:rPr b="0" lang="en-US" sz="3200" spc="-1" strike="noStrike">
                <a:solidFill>
                  <a:srgbClr val="ff0000"/>
                </a:solidFill>
                <a:latin typeface="American Typewriter"/>
                <a:ea typeface="American Typewriter"/>
              </a:rPr>
              <a:t>rdf:re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haben eine festgelegte Bedeutu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subject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predicat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C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 #Truck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#MotorVehic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76" name="Group 3"/>
          <p:cNvGrpSpPr/>
          <p:nvPr/>
        </p:nvGrpSpPr>
        <p:grpSpPr>
          <a:xfrm>
            <a:off x="7130880" y="8688240"/>
            <a:ext cx="1727280" cy="736560"/>
            <a:chOff x="7130880" y="8688240"/>
            <a:chExt cx="1727280" cy="736560"/>
          </a:xfrm>
        </p:grpSpPr>
        <p:sp>
          <p:nvSpPr>
            <p:cNvPr id="677" name="Oval 4"/>
            <p:cNvSpPr/>
            <p:nvPr/>
          </p:nvSpPr>
          <p:spPr>
            <a:xfrm>
              <a:off x="7130880" y="8688240"/>
              <a:ext cx="1727280" cy="7365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8" name="Rectangle 5"/>
            <p:cNvSpPr/>
            <p:nvPr/>
          </p:nvSpPr>
          <p:spPr>
            <a:xfrm>
              <a:off x="7270560" y="8820000"/>
              <a:ext cx="14461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Truck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9" name="Group 6"/>
          <p:cNvGrpSpPr/>
          <p:nvPr/>
        </p:nvGrpSpPr>
        <p:grpSpPr>
          <a:xfrm>
            <a:off x="10051920" y="8690040"/>
            <a:ext cx="2438280" cy="749160"/>
            <a:chOff x="10051920" y="8690040"/>
            <a:chExt cx="2438280" cy="749160"/>
          </a:xfrm>
        </p:grpSpPr>
        <p:sp>
          <p:nvSpPr>
            <p:cNvPr id="680" name="Oval 7"/>
            <p:cNvSpPr/>
            <p:nvPr/>
          </p:nvSpPr>
          <p:spPr>
            <a:xfrm>
              <a:off x="10213920" y="8690040"/>
              <a:ext cx="2112840" cy="74916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1" name="Rectangle 8"/>
            <p:cNvSpPr/>
            <p:nvPr/>
          </p:nvSpPr>
          <p:spPr>
            <a:xfrm>
              <a:off x="10051920" y="8831160"/>
              <a:ext cx="24382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rdfs:Clas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82" name="Line 9"/>
          <p:cNvSpPr/>
          <p:nvPr/>
        </p:nvSpPr>
        <p:spPr>
          <a:xfrm>
            <a:off x="8842320" y="9045720"/>
            <a:ext cx="1422360" cy="1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83" name="Group 10"/>
          <p:cNvGrpSpPr/>
          <p:nvPr/>
        </p:nvGrpSpPr>
        <p:grpSpPr>
          <a:xfrm>
            <a:off x="928800" y="8636040"/>
            <a:ext cx="3720600" cy="850680"/>
            <a:chOff x="928800" y="8636040"/>
            <a:chExt cx="3720600" cy="850680"/>
          </a:xfrm>
        </p:grpSpPr>
        <p:sp>
          <p:nvSpPr>
            <p:cNvPr id="684" name="Oval 11"/>
            <p:cNvSpPr/>
            <p:nvPr/>
          </p:nvSpPr>
          <p:spPr>
            <a:xfrm>
              <a:off x="928800" y="8636040"/>
              <a:ext cx="3720600" cy="8506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5" name="Rectangle 12"/>
            <p:cNvSpPr/>
            <p:nvPr/>
          </p:nvSpPr>
          <p:spPr>
            <a:xfrm>
              <a:off x="1422360" y="8798040"/>
              <a:ext cx="2733120" cy="52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95040" tIns="38160" bIns="38160" anchor="ctr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merican Typewriter"/>
                  <a:ea typeface="American Typewriter"/>
                </a:rPr>
                <a:t>#MotorVehic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86" name="Line 13"/>
          <p:cNvSpPr/>
          <p:nvPr/>
        </p:nvSpPr>
        <p:spPr>
          <a:xfrm flipH="1">
            <a:off x="4649400" y="9058320"/>
            <a:ext cx="244476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7" name="Rectangle 14"/>
          <p:cNvSpPr/>
          <p:nvPr/>
        </p:nvSpPr>
        <p:spPr>
          <a:xfrm>
            <a:off x="8837280" y="8470800"/>
            <a:ext cx="142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: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Rectangle 15"/>
          <p:cNvSpPr/>
          <p:nvPr/>
        </p:nvSpPr>
        <p:spPr>
          <a:xfrm>
            <a:off x="4560840" y="8470800"/>
            <a:ext cx="2730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subClass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89" name="Group 16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690" name="AutoShape 17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1" name="AutoShape 18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AutoShape 19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3" name="Rectangle 20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8074-7625-4E8F-9FBF-90C597571F1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bietet universelle Möglichkeit zur Kodierung von faktischen Daten im Web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= Aussagen über einzelne Ressourcen (Individuen) und deren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ünschenswert: Aussagen über generische Mengen von Individuen (Klassen), z.B. Verlage, Organisationen, Personen etc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63" name="Picture 3" descr=""/>
          <p:cNvPicPr/>
          <p:nvPr/>
        </p:nvPicPr>
        <p:blipFill>
          <a:blip r:embed="rId1"/>
          <a:stretch/>
        </p:blipFill>
        <p:spPr>
          <a:xfrm>
            <a:off x="2146320" y="3517920"/>
            <a:ext cx="8705880" cy="749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D4C5-227E-4C4F-A555-2E44D727AA1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1 Dokument - 3 Interpret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96" name="Rectangle 2"/>
          <p:cNvSpPr/>
          <p:nvPr/>
        </p:nvSpPr>
        <p:spPr>
          <a:xfrm>
            <a:off x="952560" y="4257720"/>
            <a:ext cx="113792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rpretation als RDF Schema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eder anderes Datenmodel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:typ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d </a:t>
            </a:r>
            <a:r>
              <a:rPr b="0" lang="en-US" sz="2400" spc="-1" strike="noStrike">
                <a:solidFill>
                  <a:srgbClr val="800000"/>
                </a:solidFill>
                <a:latin typeface="American Typewriter"/>
                <a:ea typeface="American Typewriter"/>
              </a:rPr>
              <a:t>rdfs:subClassOf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rden speziell interpretier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Line 3"/>
          <p:cNvSpPr/>
          <p:nvPr/>
        </p:nvSpPr>
        <p:spPr>
          <a:xfrm flipV="1">
            <a:off x="6525360" y="7073640"/>
            <a:ext cx="3240" cy="16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6661440" y="7620120"/>
            <a:ext cx="927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-a“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Line 5"/>
          <p:cNvSpPr/>
          <p:nvPr/>
        </p:nvSpPr>
        <p:spPr>
          <a:xfrm>
            <a:off x="6310440" y="7074000"/>
            <a:ext cx="431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Line 6"/>
          <p:cNvSpPr/>
          <p:nvPr/>
        </p:nvSpPr>
        <p:spPr>
          <a:xfrm flipV="1">
            <a:off x="6309720" y="6756120"/>
            <a:ext cx="21564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1" name="Line 7"/>
          <p:cNvSpPr/>
          <p:nvPr/>
        </p:nvSpPr>
        <p:spPr>
          <a:xfrm flipH="1" flipV="1">
            <a:off x="6525720" y="6756120"/>
            <a:ext cx="217800" cy="32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5218920" y="6263640"/>
            <a:ext cx="255708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MotorVehic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Rectangle 9"/>
          <p:cNvSpPr/>
          <p:nvPr/>
        </p:nvSpPr>
        <p:spPr>
          <a:xfrm>
            <a:off x="5870160" y="8778240"/>
            <a:ext cx="1269360" cy="42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57600" tIns="0" bIns="0" anchor="ctr">
            <a:sp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merican Typewriter"/>
                <a:ea typeface="American Typewriter"/>
              </a:rPr>
              <a:t>#Truc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704" name="Group 10"/>
          <p:cNvGrpSpPr/>
          <p:nvPr/>
        </p:nvGrpSpPr>
        <p:grpSpPr>
          <a:xfrm>
            <a:off x="1562040" y="1879560"/>
            <a:ext cx="11212560" cy="2070000"/>
            <a:chOff x="1562040" y="1879560"/>
            <a:chExt cx="11212560" cy="2070000"/>
          </a:xfrm>
        </p:grpSpPr>
        <p:sp>
          <p:nvSpPr>
            <p:cNvPr id="705" name="AutoShape 11"/>
            <p:cNvSpPr/>
            <p:nvPr/>
          </p:nvSpPr>
          <p:spPr>
            <a:xfrm>
              <a:off x="1562040" y="1879560"/>
              <a:ext cx="11209320" cy="207000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6" name="AutoShape 12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solidFill>
              <a:srgbClr val="ccc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7" name="AutoShape 13"/>
            <p:cNvSpPr/>
            <p:nvPr/>
          </p:nvSpPr>
          <p:spPr>
            <a:xfrm>
              <a:off x="11374200" y="3682800"/>
              <a:ext cx="1400400" cy="2541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Rectangle 14"/>
            <p:cNvSpPr/>
            <p:nvPr/>
          </p:nvSpPr>
          <p:spPr>
            <a:xfrm>
              <a:off x="1562040" y="2087640"/>
              <a:ext cx="1112364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3760" tIns="38160" bIns="38160" anchor="ctr">
              <a:noAutofit/>
            </a:bodyPr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ID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Truck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type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http://www.w3.org/2000/01/rdf-schema#Class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   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s:subClassOf</a:t>
              </a:r>
              <a:r>
                <a:rPr b="0" lang="en-US" sz="2400" spc="-1" strike="noStrike">
                  <a:solidFill>
                    <a:srgbClr val="ff0000"/>
                  </a:solidFill>
                  <a:latin typeface="American Typewriter"/>
                  <a:ea typeface="American Typewriter"/>
                </a:rPr>
                <a:t> rdf:resourc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="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can Typewriter"/>
                  <a:ea typeface="American Typewriter"/>
                </a:rPr>
                <a:t>#MotorVehicle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"/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marL="36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lt;/</a:t>
              </a:r>
              <a:r>
                <a:rPr b="0" lang="en-US" sz="2400" spc="-1" strike="noStrike">
                  <a:solidFill>
                    <a:srgbClr val="800000"/>
                  </a:solidFill>
                  <a:latin typeface="American Typewriter"/>
                  <a:ea typeface="American Typewriter"/>
                </a:rPr>
                <a:t>rdf:Description</a:t>
              </a:r>
              <a:r>
                <a:rPr b="0" lang="en-US" sz="2400" spc="-1" strike="noStrike">
                  <a:solidFill>
                    <a:srgbClr val="0000ff"/>
                  </a:solidFill>
                  <a:latin typeface="American Typewriter"/>
                  <a:ea typeface="American Typewriter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A077-816C-490F-BF43-02572554A3D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erhin wünschenswert: Spezifikation der logischen Zusammenhänge zwischen Individuen, Klassen und Beziehungen, um möglichst viel Semantik des Gegenstandsbereiches einzufangen, z.B.: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Verlage sind Organisationen."</a:t>
            </a:r>
            <a:br>
              <a:rPr sz="4200"/>
            </a:b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"Nur Personen schreiben Bücher.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Datenbanksprache: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6B8C-E0F3-4895-B2D3-2A2AC81547B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9563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eil der W3C Recommendation zu RDF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möglicht Spezifikation von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schemat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(auch: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terminologischem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Helvetica Neue"/>
              </a:rPr>
              <a:t>Wi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pezielles RDF-Vokabular (also: jedes RDFS-Dokument ist ein RDF-Dokumen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amensraum (i.d.R. abgekürzt mit </a:t>
            </a: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dfs:</a:t>
            </a: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) :</a:t>
            </a:r>
            <a:br>
              <a:rPr sz="3600"/>
            </a:br>
            <a:r>
              <a:rPr b="0" lang="en-US" sz="3600" spc="-1" strike="noStrike" u="sng">
                <a:solidFill>
                  <a:srgbClr val="009999"/>
                </a:solidFill>
                <a:uFillTx/>
                <a:latin typeface="American Typewriter"/>
                <a:ea typeface="American Typewriter"/>
                <a:hlinkClick r:id="rId1"/>
              </a:rPr>
              <a:t>http://www.w3.org/2000/01/rdf-schema#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65C7-7FA1-468D-8623-FF57C092E86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chemawissen mit RDF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70080" y="2018880"/>
            <a:ext cx="11531520" cy="891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Schema (RDFS)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jedoch: Vokabular nicht themengebunden (wie z.B. bei FOAF), sondern generisch 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erlaubt die Spezifikation (von Teilen) der Semantik beliebiger RDF-Vokabulare (ist also eine Art „Metavokabular“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Vorteil: jede Software mit RDFS-Unterstützung interpretiert jedes vermittels RDFS definierte Vokabular korrekt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Funktionalität macht RDFS zu einer Ontologiesprache (für leichtgewichtige - engl.: lightweight - Ontologien)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5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„</a:t>
            </a:r>
            <a:r>
              <a:rPr b="0" lang="en-US" sz="3100" spc="-1" strike="noStrike">
                <a:solidFill>
                  <a:srgbClr val="000000"/>
                </a:solidFill>
                <a:latin typeface="Helvetica Neue"/>
              </a:rPr>
              <a:t>A little semantics goes a long way.“</a:t>
            </a:r>
            <a:endParaRPr b="0" lang="en-US" sz="31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oliennummernplatzhalter 3"/>
          <p:cNvSpPr/>
          <p:nvPr/>
        </p:nvSpPr>
        <p:spPr>
          <a:xfrm>
            <a:off x="1266192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809E-8045-4EDD-87D4-03A94BC8322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Klassen und Klassen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pertys und Propertyhierarch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schränkungen auf Property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offene 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fik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sätzliche Informationen in RDF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infache Ontologi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5:49:41Z</dcterms:created>
  <dc:creator/>
  <dc:description/>
  <cp:keywords/>
  <dc:language>en-US</dc:language>
  <cp:lastModifiedBy>Sebastian Rudolph</cp:lastModifiedBy>
  <dcterms:modified xsi:type="dcterms:W3CDTF">2009-11-02T22:22:13Z</dcterms:modified>
  <cp:revision>4</cp:revision>
  <dc:subject/>
  <dc:title>Folie 1</dc:title>
</cp:coreProperties>
</file>